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B2EA3-2F06-4B19-A29D-228747E5F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ed presentation of ginseng hu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students with basic scenario. Students will then work as a class, group, or individually depending upon the instructors decision.  Students should be told to ask for additional information. Key investigation information found in scenario packa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444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up to show the IPP.  Next slide pulls back for a broader overview of the search area.  This map problem is presented to illustrate how it is still possible to carryout meaningful search planning even when no subject category or subject category statistics are available.  At the time of this search the gatherer category had not been developed. See map problem handout “Unit 1 – Ginseng Hunter” for additional information on the incident. In brief, missing ginseng hunter last seen at home, knows area well, hunting ginseng entire life.  Has been known to poach into national park. Has heart condition, complained of chest pain at church earlier in the morning. Last seen by wife, said he was going ginseng hunting. Expected to be back for di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444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problem is presented to illustrate how it is still possible to carryout meaningful search planning even when no subject category or subject category statistics are available.  At the time of this search the gatherer category had not been developed. See map problem handout “Unit 1 – Ginseng Hunter” for additional information on the incident. In brief, missing ginseng hunter last seen at home, knows area well, hunting ginseng entire life.  Has been known to poach into national park. Has heart condition, complained of chest pain at church earlier in the morning. Last seen by wife, said he was going ginseng hunting. Expected to be back for di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is slide if students ask about the Ginseng habitat.  Yellow shows most likely areas to find the roo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444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 map.  First click revels the footprint clue heading north along the trail found at a tracktrap. The second click reveals the likely area based only on time factors and habitat.  The third click reveals the find lo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nseng hunters are more willing to go greater distances cross-country than other gatherers.  This is closer in nature to workers.  Also ginseng hunters most likely to become a subject of a search because of injury, illness, or overdue.  Lost is rare.  Lost is highly common in gatherers and also common in workers. However, more cases (at least 14) are needed before any decision is made in order to look at the statis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60E74-D1C8-4F44-AD15-2065B2106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CBFD5-5F39-412F-BA98-3518F9555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6F1A2-930B-4379-A8B1-8DBA9A580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ECC7D-8D29-495A-8B65-641D18177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9E385-A574-419D-9866-FF541BEC8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090C6-18ED-4974-8E51-BCC640DCB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A6C6E-8A77-49DD-B914-4B89FE8BD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5D653-627C-48A1-B87C-F62BD3B13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42640" y="228600"/>
            <a:ext cx="80010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1CF0B-B0DE-40E2-BB1A-63F4FEACF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77650-82D1-40E3-94FF-E5685FA09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AAC94-ABC3-4CB6-A514-0DE50AE75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43423-9BDD-4F1E-A140-6CA993CE1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5960" y="65530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2009 dbS Productions</a:t>
            </a:r>
            <a:endParaRPr b="0" lang="en-US" sz="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682B-1095-44B0-8C93-BA04020F0E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 name=""/>
          <p:cNvSpPr/>
          <p:nvPr/>
        </p:nvSpPr>
        <p:spPr>
          <a:xfrm>
            <a:off x="1143000" y="304920"/>
            <a:ext cx="80010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4479840" y="3108240"/>
            <a:ext cx="488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8099280" y="6470640"/>
            <a:ext cx="7149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D424-4A96-4188-806D-CC808B659431}"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9" name=""/>
          <p:cNvSpPr/>
          <p:nvPr/>
        </p:nvSpPr>
        <p:spPr>
          <a:xfrm>
            <a:off x="1143000" y="228600"/>
            <a:ext cx="8001000" cy="9907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2"/>
          <a:stretch/>
        </p:blipFill>
        <p:spPr>
          <a:xfrm>
            <a:off x="76320" y="304920"/>
            <a:ext cx="990360" cy="76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nit 1</a:t>
            </a:r>
            <a:endParaRPr b="1" lang="en-US" sz="4400" spc="-1" strike="noStrike">
              <a:solidFill>
                <a:srgbClr val="ffffff"/>
              </a:solidFill>
              <a:latin typeface="Times New Roman"/>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ng Ginseng Hun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cenario</a:t>
            </a:r>
            <a:endParaRPr b="1" lang="en-US" sz="4400" spc="-1" strike="noStrike">
              <a:solidFill>
                <a:srgbClr val="ffffff"/>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6-yo-male. Last seen at home by wife at 13:00. Told her he was going ginseng hunting, would be back for dinner at 18:00. Did not return (has never missed dinner). Vehicle located at trailhead in working order 15 minutes from house. Mid-September, no rain in forecast, high 72F, low 40F. Currently 22:3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0" name="" descr=""/>
          <p:cNvPicPr/>
          <p:nvPr/>
        </p:nvPicPr>
        <p:blipFill>
          <a:blip r:embed="rId1"/>
          <a:srcRect l="27275" t="40193" r="17061" b="5920"/>
          <a:stretch/>
        </p:blipFill>
        <p:spPr>
          <a:xfrm>
            <a:off x="0" y="17640"/>
            <a:ext cx="9144000" cy="684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 descr=""/>
          <p:cNvPicPr/>
          <p:nvPr/>
        </p:nvPicPr>
        <p:blipFill>
          <a:blip r:embed="rId1"/>
          <a:stretch/>
        </p:blipFill>
        <p:spPr>
          <a:xfrm>
            <a:off x="-458640" y="-458640"/>
            <a:ext cx="10063080" cy="777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58640" y="-458640"/>
            <a:ext cx="10063080" cy="7777080"/>
          </a:xfrm>
          <a:prstGeom prst="rect">
            <a:avLst/>
          </a:prstGeom>
          <a:ln w="0">
            <a:noFill/>
          </a:ln>
        </p:spPr>
      </p:pic>
      <p:sp>
        <p:nvSpPr>
          <p:cNvPr id="65" name=""/>
          <p:cNvSpPr/>
          <p:nvPr/>
        </p:nvSpPr>
        <p:spPr>
          <a:xfrm>
            <a:off x="1909800" y="-506520"/>
            <a:ext cx="7027920" cy="3144960"/>
          </a:xfrm>
          <a:custGeom>
            <a:avLst/>
            <a:gdLst/>
            <a:ahLst/>
            <a:rect l="l" t="t" r="r" b="b"/>
            <a:pathLst>
              <a:path w="4427" h="1981">
                <a:moveTo>
                  <a:pt x="18" y="48"/>
                </a:moveTo>
                <a:cubicBezTo>
                  <a:pt x="50" y="145"/>
                  <a:pt x="91" y="260"/>
                  <a:pt x="164" y="333"/>
                </a:cubicBezTo>
                <a:cubicBezTo>
                  <a:pt x="171" y="369"/>
                  <a:pt x="185" y="385"/>
                  <a:pt x="199" y="416"/>
                </a:cubicBezTo>
                <a:cubicBezTo>
                  <a:pt x="217" y="457"/>
                  <a:pt x="228" y="500"/>
                  <a:pt x="247" y="541"/>
                </a:cubicBezTo>
                <a:cubicBezTo>
                  <a:pt x="263" y="575"/>
                  <a:pt x="270" y="616"/>
                  <a:pt x="282" y="652"/>
                </a:cubicBezTo>
                <a:cubicBezTo>
                  <a:pt x="293" y="686"/>
                  <a:pt x="362" y="770"/>
                  <a:pt x="393" y="791"/>
                </a:cubicBezTo>
                <a:cubicBezTo>
                  <a:pt x="428" y="843"/>
                  <a:pt x="384" y="783"/>
                  <a:pt x="428" y="826"/>
                </a:cubicBezTo>
                <a:cubicBezTo>
                  <a:pt x="465" y="862"/>
                  <a:pt x="495" y="899"/>
                  <a:pt x="546" y="916"/>
                </a:cubicBezTo>
                <a:cubicBezTo>
                  <a:pt x="777" y="906"/>
                  <a:pt x="1009" y="897"/>
                  <a:pt x="1240" y="923"/>
                </a:cubicBezTo>
                <a:cubicBezTo>
                  <a:pt x="1258" y="929"/>
                  <a:pt x="1278" y="929"/>
                  <a:pt x="1295" y="937"/>
                </a:cubicBezTo>
                <a:cubicBezTo>
                  <a:pt x="1304" y="941"/>
                  <a:pt x="1308" y="951"/>
                  <a:pt x="1316" y="957"/>
                </a:cubicBezTo>
                <a:cubicBezTo>
                  <a:pt x="1373" y="1000"/>
                  <a:pt x="1430" y="1041"/>
                  <a:pt x="1483" y="1089"/>
                </a:cubicBezTo>
                <a:cubicBezTo>
                  <a:pt x="1554" y="1153"/>
                  <a:pt x="1497" y="1113"/>
                  <a:pt x="1545" y="1145"/>
                </a:cubicBezTo>
                <a:cubicBezTo>
                  <a:pt x="1576" y="1190"/>
                  <a:pt x="1597" y="1261"/>
                  <a:pt x="1642" y="1291"/>
                </a:cubicBezTo>
                <a:cubicBezTo>
                  <a:pt x="1686" y="1354"/>
                  <a:pt x="1787" y="1416"/>
                  <a:pt x="1857" y="1443"/>
                </a:cubicBezTo>
                <a:cubicBezTo>
                  <a:pt x="1907" y="1462"/>
                  <a:pt x="1955" y="1502"/>
                  <a:pt x="2003" y="1527"/>
                </a:cubicBezTo>
                <a:cubicBezTo>
                  <a:pt x="2031" y="1541"/>
                  <a:pt x="2071" y="1543"/>
                  <a:pt x="2100" y="1547"/>
                </a:cubicBezTo>
                <a:cubicBezTo>
                  <a:pt x="2133" y="1552"/>
                  <a:pt x="2164" y="1562"/>
                  <a:pt x="2197" y="1568"/>
                </a:cubicBezTo>
                <a:cubicBezTo>
                  <a:pt x="2275" y="1607"/>
                  <a:pt x="2362" y="1633"/>
                  <a:pt x="2447" y="1658"/>
                </a:cubicBezTo>
                <a:cubicBezTo>
                  <a:pt x="2480" y="1668"/>
                  <a:pt x="2510" y="1684"/>
                  <a:pt x="2544" y="1693"/>
                </a:cubicBezTo>
                <a:cubicBezTo>
                  <a:pt x="2570" y="1710"/>
                  <a:pt x="2606" y="1732"/>
                  <a:pt x="2635" y="1742"/>
                </a:cubicBezTo>
                <a:cubicBezTo>
                  <a:pt x="2653" y="1737"/>
                  <a:pt x="2671" y="1726"/>
                  <a:pt x="2690" y="1728"/>
                </a:cubicBezTo>
                <a:cubicBezTo>
                  <a:pt x="2697" y="1729"/>
                  <a:pt x="2692" y="1743"/>
                  <a:pt x="2697" y="1749"/>
                </a:cubicBezTo>
                <a:cubicBezTo>
                  <a:pt x="2702" y="1755"/>
                  <a:pt x="2711" y="1758"/>
                  <a:pt x="2718" y="1762"/>
                </a:cubicBezTo>
                <a:cubicBezTo>
                  <a:pt x="2761" y="1783"/>
                  <a:pt x="2804" y="1818"/>
                  <a:pt x="2850" y="1832"/>
                </a:cubicBezTo>
                <a:cubicBezTo>
                  <a:pt x="2884" y="1843"/>
                  <a:pt x="2925" y="1846"/>
                  <a:pt x="2961" y="1853"/>
                </a:cubicBezTo>
                <a:cubicBezTo>
                  <a:pt x="3006" y="1862"/>
                  <a:pt x="3040" y="1875"/>
                  <a:pt x="3086" y="1880"/>
                </a:cubicBezTo>
                <a:cubicBezTo>
                  <a:pt x="3205" y="1910"/>
                  <a:pt x="3341" y="1904"/>
                  <a:pt x="3461" y="1908"/>
                </a:cubicBezTo>
                <a:cubicBezTo>
                  <a:pt x="3634" y="1944"/>
                  <a:pt x="3812" y="1937"/>
                  <a:pt x="3988" y="1950"/>
                </a:cubicBezTo>
                <a:cubicBezTo>
                  <a:pt x="4086" y="1966"/>
                  <a:pt x="4178" y="1973"/>
                  <a:pt x="4279" y="1978"/>
                </a:cubicBezTo>
                <a:cubicBezTo>
                  <a:pt x="4427" y="1968"/>
                  <a:pt x="4388" y="1981"/>
                  <a:pt x="4397" y="1825"/>
                </a:cubicBezTo>
                <a:cubicBezTo>
                  <a:pt x="4395" y="1742"/>
                  <a:pt x="4394" y="1658"/>
                  <a:pt x="4390" y="1575"/>
                </a:cubicBezTo>
                <a:cubicBezTo>
                  <a:pt x="4390" y="1573"/>
                  <a:pt x="4382" y="1532"/>
                  <a:pt x="4377" y="1527"/>
                </a:cubicBezTo>
                <a:cubicBezTo>
                  <a:pt x="4365" y="1515"/>
                  <a:pt x="4335" y="1499"/>
                  <a:pt x="4335" y="1499"/>
                </a:cubicBezTo>
                <a:cubicBezTo>
                  <a:pt x="4330" y="1492"/>
                  <a:pt x="4327" y="1484"/>
                  <a:pt x="4321" y="1478"/>
                </a:cubicBezTo>
                <a:cubicBezTo>
                  <a:pt x="4315" y="1472"/>
                  <a:pt x="4305" y="1471"/>
                  <a:pt x="4300" y="1464"/>
                </a:cubicBezTo>
                <a:cubicBezTo>
                  <a:pt x="4295" y="1458"/>
                  <a:pt x="4299" y="1448"/>
                  <a:pt x="4293" y="1443"/>
                </a:cubicBezTo>
                <a:cubicBezTo>
                  <a:pt x="4286" y="1437"/>
                  <a:pt x="4275" y="1438"/>
                  <a:pt x="4266" y="1436"/>
                </a:cubicBezTo>
                <a:cubicBezTo>
                  <a:pt x="4199" y="1385"/>
                  <a:pt x="4185" y="1286"/>
                  <a:pt x="4245" y="1214"/>
                </a:cubicBezTo>
                <a:cubicBezTo>
                  <a:pt x="4268" y="1187"/>
                  <a:pt x="4299" y="1171"/>
                  <a:pt x="4328" y="1152"/>
                </a:cubicBezTo>
                <a:cubicBezTo>
                  <a:pt x="4342" y="1143"/>
                  <a:pt x="4370" y="1124"/>
                  <a:pt x="4370" y="1124"/>
                </a:cubicBezTo>
                <a:cubicBezTo>
                  <a:pt x="4382" y="1088"/>
                  <a:pt x="4379" y="1117"/>
                  <a:pt x="4363" y="1082"/>
                </a:cubicBezTo>
                <a:cubicBezTo>
                  <a:pt x="4336" y="1022"/>
                  <a:pt x="4366" y="1058"/>
                  <a:pt x="4328" y="1020"/>
                </a:cubicBezTo>
                <a:cubicBezTo>
                  <a:pt x="4313" y="976"/>
                  <a:pt x="4294" y="951"/>
                  <a:pt x="4266" y="916"/>
                </a:cubicBezTo>
                <a:cubicBezTo>
                  <a:pt x="4261" y="909"/>
                  <a:pt x="4259" y="900"/>
                  <a:pt x="4252" y="895"/>
                </a:cubicBezTo>
                <a:cubicBezTo>
                  <a:pt x="4240" y="885"/>
                  <a:pt x="4223" y="883"/>
                  <a:pt x="4210" y="874"/>
                </a:cubicBezTo>
                <a:cubicBezTo>
                  <a:pt x="4197" y="835"/>
                  <a:pt x="4167" y="822"/>
                  <a:pt x="4134" y="798"/>
                </a:cubicBezTo>
                <a:cubicBezTo>
                  <a:pt x="4096" y="771"/>
                  <a:pt x="4074" y="727"/>
                  <a:pt x="4037" y="701"/>
                </a:cubicBezTo>
                <a:cubicBezTo>
                  <a:pt x="3990" y="631"/>
                  <a:pt x="3882" y="562"/>
                  <a:pt x="3801" y="534"/>
                </a:cubicBezTo>
                <a:cubicBezTo>
                  <a:pt x="3779" y="512"/>
                  <a:pt x="3764" y="489"/>
                  <a:pt x="3738" y="472"/>
                </a:cubicBezTo>
                <a:cubicBezTo>
                  <a:pt x="3712" y="395"/>
                  <a:pt x="3753" y="511"/>
                  <a:pt x="3717" y="430"/>
                </a:cubicBezTo>
                <a:cubicBezTo>
                  <a:pt x="3708" y="409"/>
                  <a:pt x="3703" y="365"/>
                  <a:pt x="3683" y="347"/>
                </a:cubicBezTo>
                <a:cubicBezTo>
                  <a:pt x="3664" y="330"/>
                  <a:pt x="3644" y="313"/>
                  <a:pt x="3620" y="305"/>
                </a:cubicBezTo>
                <a:cubicBezTo>
                  <a:pt x="3606" y="300"/>
                  <a:pt x="3578" y="291"/>
                  <a:pt x="3578" y="291"/>
                </a:cubicBezTo>
                <a:cubicBezTo>
                  <a:pt x="3545" y="268"/>
                  <a:pt x="3538" y="270"/>
                  <a:pt x="3495" y="277"/>
                </a:cubicBezTo>
                <a:cubicBezTo>
                  <a:pt x="3453" y="272"/>
                  <a:pt x="3411" y="269"/>
                  <a:pt x="3370" y="263"/>
                </a:cubicBezTo>
                <a:cubicBezTo>
                  <a:pt x="3332" y="257"/>
                  <a:pt x="3303" y="238"/>
                  <a:pt x="3266" y="229"/>
                </a:cubicBezTo>
                <a:cubicBezTo>
                  <a:pt x="3250" y="205"/>
                  <a:pt x="3235" y="189"/>
                  <a:pt x="3211" y="173"/>
                </a:cubicBezTo>
                <a:cubicBezTo>
                  <a:pt x="3195" y="149"/>
                  <a:pt x="3153" y="121"/>
                  <a:pt x="3127" y="104"/>
                </a:cubicBezTo>
                <a:cubicBezTo>
                  <a:pt x="3101" y="62"/>
                  <a:pt x="3056" y="37"/>
                  <a:pt x="3009" y="21"/>
                </a:cubicBezTo>
                <a:cubicBezTo>
                  <a:pt x="2847" y="35"/>
                  <a:pt x="2816" y="32"/>
                  <a:pt x="2600" y="28"/>
                </a:cubicBezTo>
                <a:cubicBezTo>
                  <a:pt x="2417" y="11"/>
                  <a:pt x="2236" y="5"/>
                  <a:pt x="2052" y="0"/>
                </a:cubicBezTo>
                <a:cubicBezTo>
                  <a:pt x="1677" y="2"/>
                  <a:pt x="1303" y="4"/>
                  <a:pt x="928" y="7"/>
                </a:cubicBezTo>
                <a:cubicBezTo>
                  <a:pt x="701" y="9"/>
                  <a:pt x="474" y="10"/>
                  <a:pt x="247" y="14"/>
                </a:cubicBezTo>
                <a:cubicBezTo>
                  <a:pt x="204" y="15"/>
                  <a:pt x="0" y="102"/>
                  <a:pt x="18" y="48"/>
                </a:cubicBezTo>
                <a:close/>
              </a:path>
            </a:pathLst>
          </a:custGeom>
          <a:solidFill>
            <a:srgbClr val="ffff99">
              <a:alpha val="54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914040" y="-7632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inseng Habitat</a:t>
            </a:r>
            <a:endParaRPr b="1" lang="en-US" sz="4400" spc="-1" strike="noStrike">
              <a:solidFill>
                <a:srgbClr val="ffffff"/>
              </a:solidFill>
              <a:latin typeface="Times New Roman"/>
            </a:endParaRPr>
          </a:p>
        </p:txBody>
      </p:sp>
      <p:sp>
        <p:nvSpPr>
          <p:cNvPr id="67" name="PlaceHolder 2"/>
          <p:cNvSpPr>
            <a:spLocks noGrp="1"/>
          </p:cNvSpPr>
          <p:nvPr>
            <p:ph/>
          </p:nvPr>
        </p:nvSpPr>
        <p:spPr>
          <a:xfrm>
            <a:off x="-360" y="1752120"/>
            <a:ext cx="2514600" cy="4953240"/>
          </a:xfrm>
          <a:prstGeom prst="rect">
            <a:avLst/>
          </a:prstGeom>
          <a:solidFill>
            <a:srgbClr val="ccffcc">
              <a:alpha val="46000"/>
            </a:srgbClr>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d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tern and Northern Slo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rate slo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wood trees</a:t>
            </a:r>
            <a:endParaRPr b="0" lang="en-US" sz="3200" spc="-1" strike="noStrike">
              <a:solidFill>
                <a:srgbClr val="000000"/>
              </a:solidFill>
              <a:latin typeface="Times New Roman"/>
            </a:endParaRPr>
          </a:p>
        </p:txBody>
      </p:sp>
      <p:sp>
        <p:nvSpPr>
          <p:cNvPr id="68" name=""/>
          <p:cNvSpPr/>
          <p:nvPr/>
        </p:nvSpPr>
        <p:spPr>
          <a:xfrm>
            <a:off x="2158920" y="992160"/>
            <a:ext cx="3371760" cy="4538520"/>
          </a:xfrm>
          <a:custGeom>
            <a:avLst/>
            <a:gdLst/>
            <a:ahLst/>
            <a:rect l="l" t="t" r="r" b="b"/>
            <a:pathLst>
              <a:path w="2124" h="2859">
                <a:moveTo>
                  <a:pt x="2124" y="2602"/>
                </a:moveTo>
                <a:cubicBezTo>
                  <a:pt x="2056" y="2593"/>
                  <a:pt x="2035" y="2574"/>
                  <a:pt x="1978" y="2560"/>
                </a:cubicBezTo>
                <a:cubicBezTo>
                  <a:pt x="1961" y="2509"/>
                  <a:pt x="1977" y="2525"/>
                  <a:pt x="1936" y="2505"/>
                </a:cubicBezTo>
                <a:cubicBezTo>
                  <a:pt x="1900" y="2467"/>
                  <a:pt x="1886" y="2412"/>
                  <a:pt x="1860" y="2366"/>
                </a:cubicBezTo>
                <a:cubicBezTo>
                  <a:pt x="1855" y="2357"/>
                  <a:pt x="1853" y="2346"/>
                  <a:pt x="1846" y="2338"/>
                </a:cubicBezTo>
                <a:cubicBezTo>
                  <a:pt x="1834" y="2323"/>
                  <a:pt x="1805" y="2297"/>
                  <a:pt x="1805" y="2297"/>
                </a:cubicBezTo>
                <a:cubicBezTo>
                  <a:pt x="1797" y="2274"/>
                  <a:pt x="1770" y="2234"/>
                  <a:pt x="1770" y="2234"/>
                </a:cubicBezTo>
                <a:cubicBezTo>
                  <a:pt x="1768" y="2190"/>
                  <a:pt x="1772" y="2145"/>
                  <a:pt x="1763" y="2102"/>
                </a:cubicBezTo>
                <a:cubicBezTo>
                  <a:pt x="1760" y="2086"/>
                  <a:pt x="1740" y="2077"/>
                  <a:pt x="1735" y="2061"/>
                </a:cubicBezTo>
                <a:cubicBezTo>
                  <a:pt x="1724" y="2027"/>
                  <a:pt x="1729" y="2047"/>
                  <a:pt x="1721" y="1998"/>
                </a:cubicBezTo>
                <a:cubicBezTo>
                  <a:pt x="1717" y="1881"/>
                  <a:pt x="1755" y="1801"/>
                  <a:pt x="1666" y="1741"/>
                </a:cubicBezTo>
                <a:cubicBezTo>
                  <a:pt x="1661" y="1734"/>
                  <a:pt x="1658" y="1727"/>
                  <a:pt x="1652" y="1721"/>
                </a:cubicBezTo>
                <a:cubicBezTo>
                  <a:pt x="1646" y="1715"/>
                  <a:pt x="1636" y="1713"/>
                  <a:pt x="1631" y="1707"/>
                </a:cubicBezTo>
                <a:cubicBezTo>
                  <a:pt x="1587" y="1654"/>
                  <a:pt x="1647" y="1699"/>
                  <a:pt x="1596" y="1665"/>
                </a:cubicBezTo>
                <a:cubicBezTo>
                  <a:pt x="1577" y="1636"/>
                  <a:pt x="1553" y="1621"/>
                  <a:pt x="1520" y="1610"/>
                </a:cubicBezTo>
                <a:cubicBezTo>
                  <a:pt x="1501" y="1582"/>
                  <a:pt x="1466" y="1566"/>
                  <a:pt x="1437" y="1547"/>
                </a:cubicBezTo>
                <a:cubicBezTo>
                  <a:pt x="1416" y="1517"/>
                  <a:pt x="1394" y="1488"/>
                  <a:pt x="1374" y="1457"/>
                </a:cubicBezTo>
                <a:cubicBezTo>
                  <a:pt x="1360" y="1401"/>
                  <a:pt x="1358" y="1403"/>
                  <a:pt x="1353" y="1346"/>
                </a:cubicBezTo>
                <a:cubicBezTo>
                  <a:pt x="1352" y="1336"/>
                  <a:pt x="1351" y="1249"/>
                  <a:pt x="1340" y="1221"/>
                </a:cubicBezTo>
                <a:cubicBezTo>
                  <a:pt x="1334" y="1204"/>
                  <a:pt x="1309" y="1183"/>
                  <a:pt x="1298" y="1172"/>
                </a:cubicBezTo>
                <a:cubicBezTo>
                  <a:pt x="1281" y="1106"/>
                  <a:pt x="1243" y="1041"/>
                  <a:pt x="1194" y="992"/>
                </a:cubicBezTo>
                <a:cubicBezTo>
                  <a:pt x="1189" y="976"/>
                  <a:pt x="1171" y="966"/>
                  <a:pt x="1166" y="950"/>
                </a:cubicBezTo>
                <a:cubicBezTo>
                  <a:pt x="1157" y="916"/>
                  <a:pt x="1165" y="878"/>
                  <a:pt x="1152" y="846"/>
                </a:cubicBezTo>
                <a:cubicBezTo>
                  <a:pt x="1142" y="822"/>
                  <a:pt x="1109" y="816"/>
                  <a:pt x="1090" y="798"/>
                </a:cubicBezTo>
                <a:cubicBezTo>
                  <a:pt x="1074" y="765"/>
                  <a:pt x="1039" y="742"/>
                  <a:pt x="1027" y="707"/>
                </a:cubicBezTo>
                <a:cubicBezTo>
                  <a:pt x="1021" y="691"/>
                  <a:pt x="1020" y="674"/>
                  <a:pt x="1013" y="659"/>
                </a:cubicBezTo>
                <a:cubicBezTo>
                  <a:pt x="1006" y="644"/>
                  <a:pt x="995" y="631"/>
                  <a:pt x="986" y="617"/>
                </a:cubicBezTo>
                <a:cubicBezTo>
                  <a:pt x="981" y="610"/>
                  <a:pt x="976" y="603"/>
                  <a:pt x="972" y="596"/>
                </a:cubicBezTo>
                <a:cubicBezTo>
                  <a:pt x="961" y="575"/>
                  <a:pt x="954" y="544"/>
                  <a:pt x="937" y="527"/>
                </a:cubicBezTo>
                <a:cubicBezTo>
                  <a:pt x="912" y="502"/>
                  <a:pt x="884" y="477"/>
                  <a:pt x="854" y="458"/>
                </a:cubicBezTo>
                <a:cubicBezTo>
                  <a:pt x="808" y="469"/>
                  <a:pt x="788" y="494"/>
                  <a:pt x="764" y="444"/>
                </a:cubicBezTo>
                <a:cubicBezTo>
                  <a:pt x="766" y="441"/>
                  <a:pt x="788" y="409"/>
                  <a:pt x="784" y="402"/>
                </a:cubicBezTo>
                <a:cubicBezTo>
                  <a:pt x="779" y="393"/>
                  <a:pt x="716" y="374"/>
                  <a:pt x="715" y="374"/>
                </a:cubicBezTo>
                <a:cubicBezTo>
                  <a:pt x="676" y="347"/>
                  <a:pt x="641" y="320"/>
                  <a:pt x="604" y="291"/>
                </a:cubicBezTo>
                <a:cubicBezTo>
                  <a:pt x="591" y="281"/>
                  <a:pt x="562" y="263"/>
                  <a:pt x="562" y="263"/>
                </a:cubicBezTo>
                <a:cubicBezTo>
                  <a:pt x="547" y="241"/>
                  <a:pt x="538" y="215"/>
                  <a:pt x="521" y="194"/>
                </a:cubicBezTo>
                <a:cubicBezTo>
                  <a:pt x="491" y="158"/>
                  <a:pt x="501" y="187"/>
                  <a:pt x="472" y="131"/>
                </a:cubicBezTo>
                <a:cubicBezTo>
                  <a:pt x="465" y="118"/>
                  <a:pt x="455" y="95"/>
                  <a:pt x="444" y="83"/>
                </a:cubicBezTo>
                <a:cubicBezTo>
                  <a:pt x="429" y="66"/>
                  <a:pt x="412" y="50"/>
                  <a:pt x="396" y="34"/>
                </a:cubicBezTo>
                <a:cubicBezTo>
                  <a:pt x="389" y="27"/>
                  <a:pt x="385" y="16"/>
                  <a:pt x="375" y="13"/>
                </a:cubicBezTo>
                <a:cubicBezTo>
                  <a:pt x="347" y="5"/>
                  <a:pt x="361" y="9"/>
                  <a:pt x="333" y="0"/>
                </a:cubicBezTo>
                <a:cubicBezTo>
                  <a:pt x="302" y="29"/>
                  <a:pt x="281" y="66"/>
                  <a:pt x="264" y="104"/>
                </a:cubicBezTo>
                <a:cubicBezTo>
                  <a:pt x="246" y="144"/>
                  <a:pt x="231" y="197"/>
                  <a:pt x="195" y="222"/>
                </a:cubicBezTo>
                <a:cubicBezTo>
                  <a:pt x="159" y="275"/>
                  <a:pt x="172" y="247"/>
                  <a:pt x="153" y="305"/>
                </a:cubicBezTo>
                <a:cubicBezTo>
                  <a:pt x="151" y="312"/>
                  <a:pt x="146" y="326"/>
                  <a:pt x="146" y="326"/>
                </a:cubicBezTo>
                <a:cubicBezTo>
                  <a:pt x="144" y="356"/>
                  <a:pt x="147" y="387"/>
                  <a:pt x="139" y="416"/>
                </a:cubicBezTo>
                <a:cubicBezTo>
                  <a:pt x="131" y="447"/>
                  <a:pt x="97" y="475"/>
                  <a:pt x="77" y="499"/>
                </a:cubicBezTo>
                <a:cubicBezTo>
                  <a:pt x="52" y="530"/>
                  <a:pt x="44" y="571"/>
                  <a:pt x="21" y="603"/>
                </a:cubicBezTo>
                <a:cubicBezTo>
                  <a:pt x="16" y="617"/>
                  <a:pt x="12" y="631"/>
                  <a:pt x="7" y="645"/>
                </a:cubicBezTo>
                <a:cubicBezTo>
                  <a:pt x="5" y="652"/>
                  <a:pt x="0" y="666"/>
                  <a:pt x="0" y="666"/>
                </a:cubicBezTo>
                <a:cubicBezTo>
                  <a:pt x="11" y="699"/>
                  <a:pt x="1" y="737"/>
                  <a:pt x="14" y="770"/>
                </a:cubicBezTo>
                <a:cubicBezTo>
                  <a:pt x="26" y="801"/>
                  <a:pt x="116" y="857"/>
                  <a:pt x="146" y="867"/>
                </a:cubicBezTo>
                <a:cubicBezTo>
                  <a:pt x="166" y="908"/>
                  <a:pt x="175" y="952"/>
                  <a:pt x="195" y="992"/>
                </a:cubicBezTo>
                <a:cubicBezTo>
                  <a:pt x="197" y="1036"/>
                  <a:pt x="197" y="1080"/>
                  <a:pt x="201" y="1124"/>
                </a:cubicBezTo>
                <a:cubicBezTo>
                  <a:pt x="202" y="1139"/>
                  <a:pt x="217" y="1159"/>
                  <a:pt x="222" y="1172"/>
                </a:cubicBezTo>
                <a:cubicBezTo>
                  <a:pt x="237" y="1209"/>
                  <a:pt x="249" y="1249"/>
                  <a:pt x="271" y="1283"/>
                </a:cubicBezTo>
                <a:cubicBezTo>
                  <a:pt x="284" y="1302"/>
                  <a:pt x="302" y="1318"/>
                  <a:pt x="312" y="1339"/>
                </a:cubicBezTo>
                <a:cubicBezTo>
                  <a:pt x="327" y="1369"/>
                  <a:pt x="341" y="1383"/>
                  <a:pt x="361" y="1408"/>
                </a:cubicBezTo>
                <a:cubicBezTo>
                  <a:pt x="371" y="1421"/>
                  <a:pt x="380" y="1436"/>
                  <a:pt x="389" y="1450"/>
                </a:cubicBezTo>
                <a:cubicBezTo>
                  <a:pt x="394" y="1457"/>
                  <a:pt x="403" y="1471"/>
                  <a:pt x="403" y="1471"/>
                </a:cubicBezTo>
                <a:cubicBezTo>
                  <a:pt x="415" y="1529"/>
                  <a:pt x="433" y="1597"/>
                  <a:pt x="486" y="1630"/>
                </a:cubicBezTo>
                <a:cubicBezTo>
                  <a:pt x="491" y="1637"/>
                  <a:pt x="494" y="1645"/>
                  <a:pt x="500" y="1651"/>
                </a:cubicBezTo>
                <a:cubicBezTo>
                  <a:pt x="506" y="1657"/>
                  <a:pt x="516" y="1658"/>
                  <a:pt x="521" y="1665"/>
                </a:cubicBezTo>
                <a:cubicBezTo>
                  <a:pt x="541" y="1689"/>
                  <a:pt x="525" y="1697"/>
                  <a:pt x="562" y="1721"/>
                </a:cubicBezTo>
                <a:cubicBezTo>
                  <a:pt x="567" y="1728"/>
                  <a:pt x="573" y="1734"/>
                  <a:pt x="576" y="1741"/>
                </a:cubicBezTo>
                <a:cubicBezTo>
                  <a:pt x="582" y="1754"/>
                  <a:pt x="578" y="1774"/>
                  <a:pt x="590" y="1783"/>
                </a:cubicBezTo>
                <a:cubicBezTo>
                  <a:pt x="607" y="1796"/>
                  <a:pt x="622" y="1812"/>
                  <a:pt x="639" y="1825"/>
                </a:cubicBezTo>
                <a:cubicBezTo>
                  <a:pt x="673" y="1850"/>
                  <a:pt x="715" y="1863"/>
                  <a:pt x="750" y="1887"/>
                </a:cubicBezTo>
                <a:cubicBezTo>
                  <a:pt x="782" y="1909"/>
                  <a:pt x="807" y="1947"/>
                  <a:pt x="840" y="1970"/>
                </a:cubicBezTo>
                <a:cubicBezTo>
                  <a:pt x="858" y="1996"/>
                  <a:pt x="878" y="2013"/>
                  <a:pt x="902" y="2033"/>
                </a:cubicBezTo>
                <a:cubicBezTo>
                  <a:pt x="924" y="2052"/>
                  <a:pt x="937" y="2075"/>
                  <a:pt x="958" y="2095"/>
                </a:cubicBezTo>
                <a:cubicBezTo>
                  <a:pt x="968" y="2126"/>
                  <a:pt x="993" y="2147"/>
                  <a:pt x="1000" y="2179"/>
                </a:cubicBezTo>
                <a:cubicBezTo>
                  <a:pt x="1018" y="2269"/>
                  <a:pt x="1030" y="2347"/>
                  <a:pt x="1111" y="2401"/>
                </a:cubicBezTo>
                <a:cubicBezTo>
                  <a:pt x="1137" y="2491"/>
                  <a:pt x="1142" y="2633"/>
                  <a:pt x="1069" y="2706"/>
                </a:cubicBezTo>
                <a:cubicBezTo>
                  <a:pt x="1067" y="2715"/>
                  <a:pt x="1062" y="2724"/>
                  <a:pt x="1062" y="2734"/>
                </a:cubicBezTo>
                <a:cubicBezTo>
                  <a:pt x="1062" y="2834"/>
                  <a:pt x="1081" y="2816"/>
                  <a:pt x="1145" y="2859"/>
                </a:cubicBezTo>
                <a:cubicBezTo>
                  <a:pt x="1236" y="2836"/>
                  <a:pt x="1136" y="2859"/>
                  <a:pt x="1353" y="2845"/>
                </a:cubicBezTo>
                <a:cubicBezTo>
                  <a:pt x="1380" y="2843"/>
                  <a:pt x="1430" y="2824"/>
                  <a:pt x="1430" y="2824"/>
                </a:cubicBezTo>
                <a:cubicBezTo>
                  <a:pt x="1443" y="2805"/>
                  <a:pt x="1448" y="2778"/>
                  <a:pt x="1464" y="2762"/>
                </a:cubicBezTo>
                <a:cubicBezTo>
                  <a:pt x="1501" y="2725"/>
                  <a:pt x="1545" y="2709"/>
                  <a:pt x="1589" y="2685"/>
                </a:cubicBezTo>
                <a:cubicBezTo>
                  <a:pt x="1646" y="2654"/>
                  <a:pt x="1691" y="2627"/>
                  <a:pt x="1756" y="2616"/>
                </a:cubicBezTo>
                <a:cubicBezTo>
                  <a:pt x="1886" y="2620"/>
                  <a:pt x="1999" y="2633"/>
                  <a:pt x="2124" y="2623"/>
                </a:cubicBezTo>
                <a:cubicBezTo>
                  <a:pt x="2107" y="2598"/>
                  <a:pt x="2102" y="2602"/>
                  <a:pt x="2124" y="2602"/>
                </a:cubicBezTo>
                <a:close/>
              </a:path>
            </a:pathLst>
          </a:custGeom>
          <a:solidFill>
            <a:srgbClr val="ffff00">
              <a:alpha val="45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 name="" descr=""/>
          <p:cNvPicPr/>
          <p:nvPr/>
        </p:nvPicPr>
        <p:blipFill>
          <a:blip r:embed="rId2"/>
          <a:stretch/>
        </p:blipFill>
        <p:spPr>
          <a:xfrm>
            <a:off x="5791320" y="1219320"/>
            <a:ext cx="2923920" cy="495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alphaModFix amt="49000"/>
          </a:blip>
          <a:srcRect l="0" t="0" r="0" b="2000"/>
          <a:stretch/>
        </p:blipFill>
        <p:spPr>
          <a:xfrm>
            <a:off x="-457200" y="-380880"/>
            <a:ext cx="10063080" cy="7621560"/>
          </a:xfrm>
          <a:prstGeom prst="rect">
            <a:avLst/>
          </a:prstGeom>
          <a:ln w="0">
            <a:noFill/>
          </a:ln>
        </p:spPr>
      </p:pic>
      <p:sp>
        <p:nvSpPr>
          <p:cNvPr id="71"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2" name=""/>
          <p:cNvSpPr/>
          <p:nvPr/>
        </p:nvSpPr>
        <p:spPr>
          <a:xfrm>
            <a:off x="914400" y="0"/>
            <a:ext cx="7696080" cy="5181480"/>
          </a:xfrm>
          <a:custGeom>
            <a:avLst/>
            <a:gdLst/>
            <a:ahLst/>
            <a:rect l="l" t="t" r="r" b="b"/>
            <a:pathLst>
              <a:path w="4848" h="3264">
                <a:moveTo>
                  <a:pt x="2928" y="3264"/>
                </a:moveTo>
                <a:lnTo>
                  <a:pt x="1488" y="2544"/>
                </a:lnTo>
                <a:lnTo>
                  <a:pt x="0" y="864"/>
                </a:lnTo>
                <a:lnTo>
                  <a:pt x="3120" y="0"/>
                </a:lnTo>
                <a:lnTo>
                  <a:pt x="3888" y="192"/>
                </a:lnTo>
                <a:lnTo>
                  <a:pt x="4128" y="864"/>
                </a:lnTo>
                <a:lnTo>
                  <a:pt x="4560" y="1104"/>
                </a:lnTo>
                <a:lnTo>
                  <a:pt x="4848" y="1920"/>
                </a:lnTo>
                <a:lnTo>
                  <a:pt x="4512" y="2352"/>
                </a:lnTo>
                <a:lnTo>
                  <a:pt x="3600" y="2352"/>
                </a:lnTo>
                <a:lnTo>
                  <a:pt x="2880" y="3264"/>
                </a:lnTo>
              </a:path>
            </a:pathLst>
          </a:custGeom>
          <a:solidFill>
            <a:srgbClr val="ccffcc">
              <a:alpha val="51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842000" y="4006800"/>
            <a:ext cx="110880" cy="1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74" name=""/>
          <p:cNvGrpSpPr/>
          <p:nvPr/>
        </p:nvGrpSpPr>
        <p:grpSpPr>
          <a:xfrm>
            <a:off x="2244240" y="1828800"/>
            <a:ext cx="877320" cy="609480"/>
            <a:chOff x="2244240" y="1828800"/>
            <a:chExt cx="877320" cy="609480"/>
          </a:xfrm>
        </p:grpSpPr>
        <p:sp>
          <p:nvSpPr>
            <p:cNvPr id="75" name=""/>
            <p:cNvSpPr/>
            <p:nvPr/>
          </p:nvSpPr>
          <p:spPr>
            <a:xfrm>
              <a:off x="2438280" y="2286000"/>
              <a:ext cx="152640" cy="152280"/>
            </a:xfrm>
            <a:prstGeom prst="plus">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6" name=""/>
            <p:cNvSpPr/>
            <p:nvPr/>
          </p:nvSpPr>
          <p:spPr>
            <a:xfrm>
              <a:off x="2244240" y="1828800"/>
              <a:ext cx="877320" cy="459720"/>
            </a:xfrm>
            <a:prstGeom prst="rect">
              <a:avLst/>
            </a:prstGeom>
            <a:solidFill>
              <a:srgbClr val="ccffcc">
                <a:alpha val="5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in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rning Points</a:t>
            </a:r>
            <a:endParaRPr b="1" lang="en-US" sz="4400" spc="-1" strike="noStrike">
              <a:solidFill>
                <a:srgbClr val="ffffff"/>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le to predict without subject categ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category “Gatherer” now gives some guidance contains 8 ginseng ca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future may look at placing in work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create new categor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egories are a tool, not an exact sci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0T18:53:33Z</dcterms:created>
  <dc:creator>Robert J. Koester</dc:creator>
  <dc:description/>
  <dc:language>en-US</dc:language>
  <cp:lastModifiedBy>Robert J. Koester</cp:lastModifiedBy>
  <dcterms:modified xsi:type="dcterms:W3CDTF">2009-10-31T00:56:22Z</dcterms:modified>
  <cp:revision>6</cp:revision>
  <dc:subject/>
  <dc:title>Unit 1</dc:title>
</cp:coreProperties>
</file>